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  <p:sldId id="317" r:id="rId80"/>
    <p:sldId id="318" r:id="rId81"/>
    <p:sldId id="319" r:id="rId82"/>
    <p:sldId id="320" r:id="rId83"/>
    <p:sldId id="321" r:id="rId84"/>
    <p:sldId id="322" r:id="rId85"/>
    <p:sldId id="323" r:id="rId86"/>
    <p:sldId id="324" r:id="rId87"/>
    <p:sldId id="325" r:id="rId88"/>
    <p:sldId id="326" r:id="rId89"/>
    <p:sldId id="327" r:id="rId90"/>
    <p:sldId id="328" r:id="rId91"/>
    <p:sldId id="329" r:id="rId92"/>
    <p:sldId id="330" r:id="rId93"/>
    <p:sldId id="331" r:id="rId94"/>
    <p:sldId id="332" r:id="rId95"/>
    <p:sldId id="333" r:id="rId96"/>
    <p:sldId id="334" r:id="rId97"/>
    <p:sldId id="335" r:id="rId98"/>
    <p:sldId id="336" r:id="rId99"/>
    <p:sldId id="337" r:id="rId100"/>
    <p:sldId id="338" r:id="rId101"/>
    <p:sldId id="339" r:id="rId102"/>
    <p:sldId id="340" r:id="rId103"/>
    <p:sldId id="341" r:id="rId104"/>
    <p:sldId id="342" r:id="rId105"/>
    <p:sldId id="343" r:id="rId106"/>
    <p:sldId id="344" r:id="rId107"/>
    <p:sldId id="345" r:id="rId108"/>
    <p:sldId id="346" r:id="rId109"/>
    <p:sldId id="347" r:id="rId110"/>
    <p:sldId id="348" r:id="rId111"/>
    <p:sldId id="349" r:id="rId112"/>
    <p:sldId id="350" r:id="rId113"/>
    <p:sldId id="351" r:id="rId114"/>
    <p:sldId id="352" r:id="rId115"/>
    <p:sldId id="353" r:id="rId116"/>
    <p:sldId id="354" r:id="rId117"/>
    <p:sldId id="355" r:id="rId118"/>
    <p:sldId id="356" r:id="rId119"/>
    <p:sldId id="357" r:id="rId120"/>
    <p:sldId id="358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slide" Target="slides/slide62.xml"/><Relationship Id="rId81" Type="http://schemas.openxmlformats.org/officeDocument/2006/relationships/slide" Target="slides/slide63.xml"/><Relationship Id="rId82" Type="http://schemas.openxmlformats.org/officeDocument/2006/relationships/slide" Target="slides/slide64.xml"/><Relationship Id="rId83" Type="http://schemas.openxmlformats.org/officeDocument/2006/relationships/slide" Target="slides/slide65.xml"/><Relationship Id="rId84" Type="http://schemas.openxmlformats.org/officeDocument/2006/relationships/slide" Target="slides/slide66.xml"/><Relationship Id="rId85" Type="http://schemas.openxmlformats.org/officeDocument/2006/relationships/slide" Target="slides/slide67.xml"/><Relationship Id="rId86" Type="http://schemas.openxmlformats.org/officeDocument/2006/relationships/slide" Target="slides/slide68.xml"/><Relationship Id="rId87" Type="http://schemas.openxmlformats.org/officeDocument/2006/relationships/slide" Target="slides/slide69.xml"/><Relationship Id="rId88" Type="http://schemas.openxmlformats.org/officeDocument/2006/relationships/slide" Target="slides/slide70.xml"/><Relationship Id="rId89" Type="http://schemas.openxmlformats.org/officeDocument/2006/relationships/slide" Target="slides/slide71.xml"/><Relationship Id="rId90" Type="http://schemas.openxmlformats.org/officeDocument/2006/relationships/slide" Target="slides/slide72.xml"/><Relationship Id="rId91" Type="http://schemas.openxmlformats.org/officeDocument/2006/relationships/slide" Target="slides/slide73.xml"/><Relationship Id="rId92" Type="http://schemas.openxmlformats.org/officeDocument/2006/relationships/slide" Target="slides/slide74.xml"/><Relationship Id="rId93" Type="http://schemas.openxmlformats.org/officeDocument/2006/relationships/slide" Target="slides/slide75.xml"/><Relationship Id="rId94" Type="http://schemas.openxmlformats.org/officeDocument/2006/relationships/slide" Target="slides/slide76.xml"/><Relationship Id="rId95" Type="http://schemas.openxmlformats.org/officeDocument/2006/relationships/slide" Target="slides/slide77.xml"/><Relationship Id="rId96" Type="http://schemas.openxmlformats.org/officeDocument/2006/relationships/slide" Target="slides/slide78.xml"/><Relationship Id="rId97" Type="http://schemas.openxmlformats.org/officeDocument/2006/relationships/slide" Target="slides/slide79.xml"/><Relationship Id="rId98" Type="http://schemas.openxmlformats.org/officeDocument/2006/relationships/slide" Target="slides/slide80.xml"/><Relationship Id="rId99" Type="http://schemas.openxmlformats.org/officeDocument/2006/relationships/slide" Target="slides/slide81.xml"/><Relationship Id="rId100" Type="http://schemas.openxmlformats.org/officeDocument/2006/relationships/slide" Target="slides/slide82.xml"/><Relationship Id="rId101" Type="http://schemas.openxmlformats.org/officeDocument/2006/relationships/slide" Target="slides/slide83.xml"/><Relationship Id="rId102" Type="http://schemas.openxmlformats.org/officeDocument/2006/relationships/slide" Target="slides/slide84.xml"/><Relationship Id="rId103" Type="http://schemas.openxmlformats.org/officeDocument/2006/relationships/slide" Target="slides/slide85.xml"/><Relationship Id="rId104" Type="http://schemas.openxmlformats.org/officeDocument/2006/relationships/slide" Target="slides/slide86.xml"/><Relationship Id="rId105" Type="http://schemas.openxmlformats.org/officeDocument/2006/relationships/slide" Target="slides/slide87.xml"/><Relationship Id="rId106" Type="http://schemas.openxmlformats.org/officeDocument/2006/relationships/slide" Target="slides/slide88.xml"/><Relationship Id="rId107" Type="http://schemas.openxmlformats.org/officeDocument/2006/relationships/slide" Target="slides/slide89.xml"/><Relationship Id="rId108" Type="http://schemas.openxmlformats.org/officeDocument/2006/relationships/slide" Target="slides/slide90.xml"/><Relationship Id="rId109" Type="http://schemas.openxmlformats.org/officeDocument/2006/relationships/slide" Target="slides/slide91.xml"/><Relationship Id="rId110" Type="http://schemas.openxmlformats.org/officeDocument/2006/relationships/slide" Target="slides/slide92.xml"/><Relationship Id="rId111" Type="http://schemas.openxmlformats.org/officeDocument/2006/relationships/slide" Target="slides/slide93.xml"/><Relationship Id="rId112" Type="http://schemas.openxmlformats.org/officeDocument/2006/relationships/slide" Target="slides/slide94.xml"/><Relationship Id="rId113" Type="http://schemas.openxmlformats.org/officeDocument/2006/relationships/slide" Target="slides/slide95.xml"/><Relationship Id="rId114" Type="http://schemas.openxmlformats.org/officeDocument/2006/relationships/slide" Target="slides/slide96.xml"/><Relationship Id="rId115" Type="http://schemas.openxmlformats.org/officeDocument/2006/relationships/slide" Target="slides/slide97.xml"/><Relationship Id="rId116" Type="http://schemas.openxmlformats.org/officeDocument/2006/relationships/slide" Target="slides/slide98.xml"/><Relationship Id="rId117" Type="http://schemas.openxmlformats.org/officeDocument/2006/relationships/slide" Target="slides/slide99.xml"/><Relationship Id="rId118" Type="http://schemas.openxmlformats.org/officeDocument/2006/relationships/slide" Target="slides/slide100.xml"/><Relationship Id="rId119" Type="http://schemas.openxmlformats.org/officeDocument/2006/relationships/slide" Target="slides/slide101.xml"/><Relationship Id="rId120" Type="http://schemas.openxmlformats.org/officeDocument/2006/relationships/slide" Target="slides/slide102.xml"/><Relationship Id="rId121" Type="http://schemas.openxmlformats.org/officeDocument/2006/relationships/slide" Target="slides/slide103.xml"/><Relationship Id="rId1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A73D-1178-4D29-9395-732F9DBA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26F4-6455-4094-8E8B-39CF202DD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35EFE5-8042-42B1-A866-BE6CD286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4C0DE-6B52-4DCC-A710-26DAF101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4EF7A-4832-45EE-9DAF-610C91D8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BC09F8-3587-4534-88FC-8BEA2B55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A52AA-2D84-45C8-B35F-934BFD34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4D840E-5426-4D62-BCC7-2332B47E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B0919-61BB-425B-83D1-126F4880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560C8-839E-4B31-957A-DA4D4A1E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6C737-BEF5-400E-9563-AF0345B10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647EF-7635-412A-BBE5-4757664B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FAD4-E41B-44DA-9952-C863B21A9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F69E9-ECD8-42FB-B7D9-166B1E66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C45C4-FACE-4EAF-BBBB-E6AD240C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A248E-2447-4DF7-AD4E-1F549F43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D0A33-BD3C-4288-867D-666EF33C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7BA59-FE99-4B99-BFE3-75B4B359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4B637-E8C0-4841-9E94-44D0E059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04ACE-990D-4962-A298-77027362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A2030-363B-4B93-A2E5-7AEB5CDD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6AD075-D737-4DE4-A973-6C081549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808CB6-25C3-4C0E-9F4C-C0DE2787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B2A7-6EB1-49ED-96C1-B432EF95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E15F9-2504-409F-BE7A-1E163B5B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749E1-BA40-402F-9189-26D520A5B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862DE-8857-4C94-AAF4-DEE0611C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893C4-42E0-47E7-88D0-A03FB2D4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7E52B-599E-46B6-9CC9-9914D09F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B8FC3-19E7-49A1-A854-9BF35263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755D0-A7C1-4940-BDA7-5B60A164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F402D-4CA3-4760-8C50-528092CC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29BE8-9ECB-4486-AB77-A765654F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CC313-EDF0-43E2-AD07-4BFD1D52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4D6A-6CDF-42B1-A152-213C2A8B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630E2-ED6A-4A26-BFBA-74C14416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7DC2E-BFA3-44F7-A8E4-E831F465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56D8F-0B47-440B-A2CE-51D5264AD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2C964-51AD-44A5-A924-AB9C64A1E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465A0-116C-4753-A898-04F4189E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BFBF09-7631-4106-8CE3-C6EC84AD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D2509-1B11-4F02-B3E2-FB333497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601C2F-37D7-4F2B-B110-B46DE9BE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359B0-C0E7-4E2F-8613-6BA2FFFA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445671-1E9F-44F1-A6FA-0D56DD17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89D9-22BA-4D2F-AA0D-F9FDB6CD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C1D67-5061-4259-9CF1-E08EAEAA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1D34A-80C1-4DF0-8C90-0352BC79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18C9B-9BED-41D9-B11B-C12BE0F8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40CCF5-3E48-4903-82C4-15BFA284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CD07F-5844-4307-83C6-5F9A9916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29F486-C476-456A-BEC0-ACEE26AA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63FC81-3540-4080-92AE-10DA80B7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41C588-B9AB-45CF-A79F-231E40ED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98F21-343C-43FF-B5CD-350B0C8B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9E3494-2421-4DD4-A7E8-2EAF590F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D505-25E6-4F5E-A194-227ADEE1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13354C-C09C-400A-8570-28898377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FC9165-3723-45FB-A2C7-6B1A0984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EEF78F-8F35-4BDD-9261-056DEC53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DA0ADE-4442-42FA-BB08-85D1DFC4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8E8B21-1CC5-4470-92F1-D02DD5DC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E6FC82-E939-4F97-A6F8-83D5A406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04BD44-CFFB-4F65-A3A3-EB34A484B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087880-7472-404E-A12F-05EB9C63B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D6D68D-6990-4586-A0C6-69DF873F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2B8242-E44F-4F5F-BABD-BDB89F4D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09CD-D8FC-4D66-AE6F-7BAD5F36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B522FE-D35E-493B-B5D2-4236DCD7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D3D98C-74FA-46AC-AADE-C1FBD239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FD34EE-B84A-4DCF-981B-85DE2369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76B251-5F51-4399-95F0-9F9A6ACA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98E93A-33D4-49AC-B249-B0DDB928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23B53D-0F4B-49FE-B4C3-2A23D09B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96369F-5BD1-44E2-89EF-B097C886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105610-2C62-4AF7-AE03-589D25B3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52264E-AD70-481F-94FC-EB95BF4FE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D4A387-D89E-4D93-9834-90C925CCF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0D5F-E0DC-4954-886D-71D4CE56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B148F2-19AF-4D3D-A4A8-E698440B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637E4C-4A83-48B7-859B-EF996318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269A1C-77C6-4486-80D4-3A1212F6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CBF425-3E6F-43FE-BC5D-8F0D654F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BEA5F6-089B-486A-BDBA-DFFB02C9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88A367-FB0E-49E3-B082-AE0B23CB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D3E991-D461-4414-9A60-B2945215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B19585-3E2A-42C8-AE32-EE29C254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8B0392-BD85-46B7-AA53-82CA3CD1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B8890C-6A0E-4A31-83F1-AB4BA26D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52FB-B0E9-4461-9C70-78B37393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81D52E-5DA8-4581-B8C9-D08A9919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9F9960-279A-4672-9518-607F709A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6D6F7B-4295-4E39-8723-199237D6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96FA74-BE2B-4F74-BC02-0B3997EC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B6E3AB-221E-4C80-89B4-A66B68E8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A72CC6-6393-4CF7-830B-B9AED6AB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356292-0130-46C7-81AD-110761E4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C98A46-83C1-46F9-8117-6A61F8FD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F43F2B-9387-4F3B-89B2-02A77B53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FE121E-55B4-4481-9570-7ECE3BBA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C993-8BCC-4FA5-82D7-200C2BAF0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972E24-DC7C-423D-8FFC-5A003360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AB6224-B784-45B6-8281-2DDF2CE3D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F93BCD-40FE-407C-8BA1-12EA577EB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3B2D2F-20BB-49F4-8255-CCBBEF4C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5B585C-82F6-43DE-BD9A-4BF5F553F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803A09-6B59-4334-ABB1-B40F1229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E905D1-CB51-40F9-8949-E09BF0A9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BE65C2-FC39-4373-8E96-BF959F40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47E24C-CF8E-43A9-A3B7-DFB4C911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A565C4-0E41-40A6-85E7-4113B3B7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8CE1-B69F-4C31-8C18-C4676779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ABBA-D2A2-468A-9DB1-F2BE7120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8EDDF3-1933-40FE-9F19-0F316A6D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7953AD-DCED-4443-8155-047A22AC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2ED685-0419-444E-A78E-3159F8D9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36F8ED-0C07-42F4-A77A-45FE2A5BA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B2D5AF-D584-4820-962B-431F8F41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03BB-117A-4C00-8630-6CBFEF07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7C90-9901-4F41-B007-A9B64209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9244-14A2-4FD6-9A65-6B2E9434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6B21-1BCC-4563-822D-B0D731C7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AB1F4-9CF9-459A-89A0-8B3AD3B27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36542-915E-42FF-BBE4-D1892001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0B9AB-CB90-42D1-A5CA-7EAB490C5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D95D9-5E5F-48C6-BA66-F63533EE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B8BB7-7382-4BDA-B052-5B57BC02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4A02-C316-4ED5-B4B1-3645A320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34CCB-0AE7-485B-9946-0433C974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1A021-410D-48DF-B78B-C19138DF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95D9B-54EE-4069-A96F-7C6B1540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26F4C-CBD3-4F1F-9AC9-055D3A9C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F08C4-9E41-4BAA-85B6-2E1E82D4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09BEB-E51E-4626-9579-9E18BC480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75D51-C4EB-449E-8CBE-786143F2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03C63-5C0C-4FCA-9B3E-C408A3C0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AF13E-189E-4C19-8EA1-D8B43DA7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23C8C-CCA5-4880-9083-45140451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B685-83F5-41B3-91DD-C928C1AA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D5189-701A-4D77-897A-E366DF49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752C9-109F-4BDD-8292-7297DC44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EA97E-38ED-45A9-9EFA-528D9A1C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43741-9A13-4BD0-8C7D-CBCD978A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6BB08-61CC-4E47-AC36-39128ED0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4F45C-4C29-43AB-96FD-FA95339C3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6BD9A-C82D-48C3-AB94-918C8947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11F62-F5F4-4879-9F30-01B1C4E4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82CD4-AF9A-4084-9BDC-06A17E65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22BAB-EC6A-4293-9F79-A1689BA80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199B-BC9B-4E7D-A9ED-493E6908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9D77F-599C-4E78-964C-B6A44E93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13BE7-96F9-49C0-B9F2-57C22C7B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185F1-432B-45D5-91C4-B322D5E8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4550C-1513-4BE6-A93A-E06DC9B6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FF73A-2614-4648-9F15-4160434C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5A706-C369-4439-BA5F-EBA15F9A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C3E6C-D34B-4787-B564-8E19A7B6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48125-DA05-4833-8A69-2AF282BB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4BB01-8C8B-45D4-9701-2B98E131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4E3F0-B405-462C-9D8D-AA126285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F731-25B6-416A-87D2-E1024C4C9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5E63A-42A8-49ED-A767-EA98EE262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03FD1-B60B-4E17-B794-C85D2836D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2F351-AFFA-4BE8-A1D4-E4E7BD50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BF6CD2-BB99-4356-9908-43741674B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C4DC2-6A52-4CA6-9407-4F29C037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20F4B-A2D0-404A-938E-40BB6067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33D45-E1C5-48EC-B1C7-266832DAE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9AA5D-ABDD-4C4B-9CEB-66F8E3CD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C3887-DD7B-4557-A5D6-F1799E6F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66045-7D53-4A92-97F5-9A2BADA0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B6CE-6ED3-4A78-985F-30E31125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E6552B-A2B0-4964-8C2A-30CD542E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654B6-C289-4229-9632-085E90A0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B515E-C108-43BA-8986-9E0CC7B8B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2FA2C-E247-45BB-8000-6DB20575C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ACED7-DD1E-4FA0-811D-6695E6C8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B96571-15A2-4BA9-9FCD-01256953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09505-8D8C-43FC-A722-D5A67FF04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6D16A-02FC-47F5-99B4-4779E50A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E3AFBE-1CED-4CD9-836D-BF1D961B6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802F1-4454-43A5-BB83-1D272751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C9AF-185D-42D9-A46B-39C4171E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672B4-9332-41B3-9A06-DBB4E3A6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C94E7-1E83-4EED-8CCB-F40C4086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4AD24-3C04-41D4-98AD-D7D17C27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28589-55A7-4406-AB57-E251D1A1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0E9A3-B48D-4DC4-B30B-2CA3173A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707CB-E041-420B-8EBD-5A7529662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BD7F1-8918-4F7F-80F3-B3237A449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308BD-E731-44EB-B854-78D7BE5F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5B37B-775A-4D01-B023-ADE6619F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F83F4-125B-42BD-823B-5526C356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E9C6-4953-4D61-9A8B-1E73013C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AB1D9-1CF1-4B3C-9C20-B2BBB094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D9000-A95A-4248-A109-17BFE844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20909-CE44-4E06-8AB0-875B5AC7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E3D3B-0E13-4043-91A5-F238C350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58565-B955-4E86-BC90-4685518C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1405D-FD97-48D2-9A3D-9A34436B3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5A3A35-8763-4AC0-A86C-4410D7B6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44739-2CCC-48D3-BFA1-6DB574DCC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8AABA-E2DD-4421-A7B3-E70B5FC5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1BDF6-A14F-4102-B306-B99077AC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845C-826E-4849-A6EF-695BF4F229D5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6F76-6C9E-4998-B9F8-733BB3217EBE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6EA4-7BD9-42DB-8B19-43CF1018AC9D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b59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b59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9F19-F9CD-46B9-9E38-112878C6B7DA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BC83-5D9C-40D6-9DBA-6504993BCC34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b59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b59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645C-920F-4CB4-B42E-8247E0D5FD96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54F0-3BA3-4D9C-BE54-3D9102E34F37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FDB2-F2A8-4900-9371-0BFA167A19BB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C937-E708-4642-817C-8BB479ED5D71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E2D7-F187-429C-B472-1920CA5F7B0B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FF87-ABA6-4181-8BBD-4D85A2B674E9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C6E4-A397-408B-A6BC-F2C67D6190F9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8002-452C-4CCA-AC54-94BB49A8BA9F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F9E7-6C3C-4C22-B076-4F4091858BE8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CB3C-F771-449E-9A2C-58E8E57FABE2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F540-5252-4209-8757-B3B6C90F2248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4d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4d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4d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b5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b59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3ADC-A590-4C7D-88AC-4400928405AF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upo 9"/>
          <p:cNvGrpSpPr/>
          <p:nvPr/>
        </p:nvGrpSpPr>
        <p:grpSpPr>
          <a:xfrm>
            <a:off x="539640" y="1844640"/>
            <a:ext cx="8064720" cy="2927880"/>
            <a:chOff x="539640" y="1844640"/>
            <a:chExt cx="8064720" cy="2927880"/>
          </a:xfrm>
        </p:grpSpPr>
        <p:sp>
          <p:nvSpPr>
            <p:cNvPr id="1177" name="Rectángulo 2"/>
            <p:cNvSpPr/>
            <p:nvPr/>
          </p:nvSpPr>
          <p:spPr>
            <a:xfrm>
              <a:off x="539640" y="1844640"/>
              <a:ext cx="8064720" cy="292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800" spc="-1" strike="noStrike">
                  <a:solidFill>
                    <a:srgbClr val="000000"/>
                  </a:solidFill>
                  <a:latin typeface="Century Gothic"/>
                </a:rPr>
                <a:t>LOS DOS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7200" spc="-1" strike="noStrike">
                  <a:solidFill>
                    <a:srgbClr val="000000"/>
                  </a:solidFill>
                  <a:latin typeface="Baskerville Old Face"/>
                  <a:ea typeface="Andalus"/>
                </a:rPr>
                <a:t>LENGUAJES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800" spc="-1" strike="noStrike">
                  <a:solidFill>
                    <a:srgbClr val="000000"/>
                  </a:solidFill>
                  <a:latin typeface="Century Gothic"/>
                </a:rPr>
                <a:t>DE LA </a:t>
              </a:r>
              <a:r>
                <a:rPr b="0" lang="es-ES" sz="6600" spc="-1" strike="noStrike">
                  <a:solidFill>
                    <a:srgbClr val="000000"/>
                  </a:solidFill>
                  <a:latin typeface="Century Gothic"/>
                </a:rPr>
                <a:t>PROVIDENCIA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Conector recto 6"/>
            <p:cNvSpPr/>
            <p:nvPr/>
          </p:nvSpPr>
          <p:spPr>
            <a:xfrm>
              <a:off x="2051640" y="3575160"/>
              <a:ext cx="3600360" cy="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Conector recto 10"/>
            <p:cNvSpPr/>
            <p:nvPr/>
          </p:nvSpPr>
          <p:spPr>
            <a:xfrm>
              <a:off x="6092640" y="3575160"/>
              <a:ext cx="927720" cy="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ángulo 1"/>
          <p:cNvSpPr/>
          <p:nvPr/>
        </p:nvSpPr>
        <p:spPr>
          <a:xfrm>
            <a:off x="701640" y="2133720"/>
            <a:ext cx="754236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Fueron todos ligados a las palabras de verdad, a fin de que sus lecciones fuesen así traídas a menudo a la memoria, aún en medio de los cuidados de la vida de trabajo del homb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ángulo 1"/>
          <p:cNvSpPr/>
          <p:nvPr/>
        </p:nvSpPr>
        <p:spPr>
          <a:xfrm>
            <a:off x="971640" y="2128680"/>
            <a:ext cx="72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l Espíritu Santo exalta y glorifica al Salvador. Es su oficio presentar a Cristo, la pureza de su justicia y la gran salvación que tenemos por é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ángulo 1"/>
          <p:cNvSpPr/>
          <p:nvPr/>
        </p:nvSpPr>
        <p:spPr>
          <a:xfrm>
            <a:off x="1116000" y="2349360"/>
            <a:ext cx="676908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Jesús dice: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“El tomará de lo mío, y os lo anunciará”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San Juan 16: 14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ángulo 1"/>
          <p:cNvSpPr/>
          <p:nvPr/>
        </p:nvSpPr>
        <p:spPr>
          <a:xfrm>
            <a:off x="1835280" y="2276640"/>
            <a:ext cx="56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 Espíritu de verdad es el único maestro eficaz de la verdad div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ángulo 1"/>
          <p:cNvSpPr/>
          <p:nvPr/>
        </p:nvSpPr>
        <p:spPr>
          <a:xfrm>
            <a:off x="1349280" y="2160720"/>
            <a:ext cx="646272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¡Cuánto no estimará Dios a la raza humana, siendo que dio a su Hijo para que muriese por ella y manda su Espíritu para que sea el maestro y continuo guía del hombre!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ángulo 1"/>
          <p:cNvSpPr/>
          <p:nvPr/>
        </p:nvSpPr>
        <p:spPr>
          <a:xfrm>
            <a:off x="900000" y="2276640"/>
            <a:ext cx="72723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Dios quiere que sus hijos aprecien sus obras y se deleiten en la sencilla y tranquila hermosura con que él ha adornado nuestra morada terren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ángulo 1"/>
          <p:cNvSpPr/>
          <p:nvPr/>
        </p:nvSpPr>
        <p:spPr>
          <a:xfrm>
            <a:off x="1494000" y="2276640"/>
            <a:ext cx="595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l es amante de lo bello y, sobre todo, ama la belleza del carácter, que es más atractiva que todo lo exter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ángulo 1"/>
          <p:cNvSpPr/>
          <p:nvPr/>
        </p:nvSpPr>
        <p:spPr>
          <a:xfrm>
            <a:off x="1098720" y="234936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y quiere que cultivemos la pureza y la sencillez, las gracias características de las fl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ángulo 1"/>
          <p:cNvSpPr/>
          <p:nvPr/>
        </p:nvSpPr>
        <p:spPr>
          <a:xfrm>
            <a:off x="1062000" y="2079720"/>
            <a:ext cx="696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i tan sólo queremos escuchar, las obras que Dios ha hecho nos enseñarán lecciones preciosas de obediencia  y confian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ángulo 1"/>
          <p:cNvSpPr/>
          <p:nvPr/>
        </p:nvSpPr>
        <p:spPr>
          <a:xfrm>
            <a:off x="684360" y="227664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sde las estrellas que en su carrera por el espacio sin huellas siguen de siglo en siglo sus sendas asign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ángulo 1"/>
          <p:cNvSpPr/>
          <p:nvPr/>
        </p:nvSpPr>
        <p:spPr>
          <a:xfrm>
            <a:off x="755640" y="2781360"/>
            <a:ext cx="748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asta el átomo más pequeño, las cosas de la naturaleza obedecen a la voluntad del Cre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ángulo 1"/>
          <p:cNvSpPr/>
          <p:nvPr/>
        </p:nvSpPr>
        <p:spPr>
          <a:xfrm>
            <a:off x="1152360" y="2565360"/>
            <a:ext cx="67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Y Dios cuida y sostiene todas las cosas que ha cre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ángulo 1"/>
          <p:cNvSpPr/>
          <p:nvPr/>
        </p:nvSpPr>
        <p:spPr>
          <a:xfrm>
            <a:off x="1187280" y="2060640"/>
            <a:ext cx="676944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El que sustenta los innumerables mundos diseminados por la inmensidad, también tiene cuidado del gorrioncillo que entona sin temor su humilde can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ángulo 1"/>
          <p:cNvSpPr/>
          <p:nvPr/>
        </p:nvSpPr>
        <p:spPr>
          <a:xfrm>
            <a:off x="900000" y="2322360"/>
            <a:ext cx="732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uando los hombres van a su trabajo o están orando; cuando descansan o se levantan por la mañ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24000" y="2133720"/>
            <a:ext cx="68040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4000" spc="-1" strike="noStrike">
                <a:solidFill>
                  <a:srgbClr val="262626"/>
                </a:solidFill>
                <a:latin typeface="Calibri"/>
              </a:rPr>
              <a:t>Son muchas las formas en que Dios está procurando dársenos a conocer y ponernos en comunión con él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ángulo 1"/>
          <p:cNvSpPr/>
          <p:nvPr/>
        </p:nvSpPr>
        <p:spPr>
          <a:xfrm>
            <a:off x="1042920" y="2421000"/>
            <a:ext cx="705816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cuando el rico se sacia en el palacio, o cuando el pobre reúne a sus hijos alrededor de su escasa mesa, el Padre celestial vigila tiernamente a tod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ángulo 1"/>
          <p:cNvSpPr/>
          <p:nvPr/>
        </p:nvSpPr>
        <p:spPr>
          <a:xfrm>
            <a:off x="1619280" y="2027160"/>
            <a:ext cx="597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se derraman lágrimas sin que él lo no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hay sonrisa que para él pase inadver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ángulo 1"/>
          <p:cNvSpPr/>
          <p:nvPr/>
        </p:nvSpPr>
        <p:spPr>
          <a:xfrm>
            <a:off x="1547640" y="2205000"/>
            <a:ext cx="633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i creyéramos plenamente esto, toda ansiedad indebida desaparec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ángulo 1"/>
          <p:cNvSpPr/>
          <p:nvPr/>
        </p:nvSpPr>
        <p:spPr>
          <a:xfrm>
            <a:off x="1187280" y="2205000"/>
            <a:ext cx="669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Nuestras vidas no estarían tan llenas de desengaños como aho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ángulo 1"/>
          <p:cNvSpPr/>
          <p:nvPr/>
        </p:nvSpPr>
        <p:spPr>
          <a:xfrm>
            <a:off x="971640" y="2276640"/>
            <a:ext cx="712944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porque cada cosa, debe dejarse en las manos de Dios, quien no se confunde por la multiplicidad de los cuidados, ni se abruma por su pes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ángulo 1"/>
          <p:cNvSpPr/>
          <p:nvPr/>
        </p:nvSpPr>
        <p:spPr>
          <a:xfrm>
            <a:off x="1547640" y="1989000"/>
            <a:ext cx="617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Gozaríamos entonces del reposo del alma al cual muchos han sido por largo tiempo extra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ángulo 1"/>
          <p:cNvSpPr/>
          <p:nvPr/>
        </p:nvSpPr>
        <p:spPr>
          <a:xfrm>
            <a:off x="1332000" y="1989000"/>
            <a:ext cx="637200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Cuando vuestros sentidos se deleiten en la amena belleza de la tierra, pensad en el mundo venidero que nunca conocerá mancha de pecado  ni de muert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ángulo 1"/>
          <p:cNvSpPr/>
          <p:nvPr/>
        </p:nvSpPr>
        <p:spPr>
          <a:xfrm>
            <a:off x="1349280" y="2205000"/>
            <a:ext cx="6318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onde la faz de la naturaleza no llevará más la sombra de la mald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ángulo 1"/>
          <p:cNvSpPr/>
          <p:nvPr/>
        </p:nvSpPr>
        <p:spPr>
          <a:xfrm>
            <a:off x="1027080" y="2006640"/>
            <a:ext cx="7000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Que vuestra imaginación represente la morada de los justos y entonces recordad que será más gloriosa que cuanto pueda figurarse la más brillante imagin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ángulo 1"/>
          <p:cNvSpPr/>
          <p:nvPr/>
        </p:nvSpPr>
        <p:spPr>
          <a:xfrm>
            <a:off x="1187280" y="1916280"/>
            <a:ext cx="684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n los variados dones de Dios en la naturaleza no vemos sino el reflejo más pálido de su gl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ángulo 1"/>
          <p:cNvSpPr/>
          <p:nvPr/>
        </p:nvSpPr>
        <p:spPr>
          <a:xfrm>
            <a:off x="1854360" y="2413080"/>
            <a:ext cx="5597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a naturaleza habla sin cesar a nuestros sent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ángulo 1"/>
          <p:cNvSpPr/>
          <p:nvPr/>
        </p:nvSpPr>
        <p:spPr>
          <a:xfrm>
            <a:off x="971640" y="1946160"/>
            <a:ext cx="72007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á escrito: 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¡Cosas que ojo no vio, ni oído oyó, y que jamás entraron en pensamiento humano - las cosas grandes que ha preparado Dios para los que le aman!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1 Corintios 2: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ángulo 2"/>
          <p:cNvSpPr/>
          <p:nvPr/>
        </p:nvSpPr>
        <p:spPr>
          <a:xfrm>
            <a:off x="1258920" y="1844640"/>
            <a:ext cx="6535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El poeta y el naturalista tienen muchas cosas que decir acerca de la naturalez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ángulo 1"/>
          <p:cNvSpPr/>
          <p:nvPr/>
        </p:nvSpPr>
        <p:spPr>
          <a:xfrm>
            <a:off x="1258920" y="2128680"/>
            <a:ext cx="6553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ero es el cristiano el que más goza de la belleza de la tier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ángulo 1"/>
          <p:cNvSpPr/>
          <p:nvPr/>
        </p:nvSpPr>
        <p:spPr>
          <a:xfrm>
            <a:off x="1332000" y="1989000"/>
            <a:ext cx="667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orque reconoce la obra de la mano de su Padre y percibe su amor en la flor, el arbusto y el ár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ángulo 1"/>
          <p:cNvSpPr/>
          <p:nvPr/>
        </p:nvSpPr>
        <p:spPr>
          <a:xfrm>
            <a:off x="1042920" y="2006640"/>
            <a:ext cx="72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Nadie que no los mire como una expresión del amor de Dios al hombre puede apreciar plenamente la significación de la colina ni del valle, del río ni del m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ángulo 2"/>
          <p:cNvSpPr/>
          <p:nvPr/>
        </p:nvSpPr>
        <p:spPr>
          <a:xfrm>
            <a:off x="1258920" y="1852560"/>
            <a:ext cx="67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ios nos habla mediante sus obras providenciales y por la influencia de su Espíritu Santo en el coraz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ángulo 1"/>
          <p:cNvSpPr/>
          <p:nvPr/>
        </p:nvSpPr>
        <p:spPr>
          <a:xfrm>
            <a:off x="1187280" y="1862280"/>
            <a:ext cx="662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n nuestras circunstancias y ambiente, en los cambios que suceden diariamente en torno nuestro, podemos encontrar preciosas lec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ángulo 1"/>
          <p:cNvSpPr/>
          <p:nvPr/>
        </p:nvSpPr>
        <p:spPr>
          <a:xfrm>
            <a:off x="1332000" y="2349360"/>
            <a:ext cx="662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i tan sólo nuestros corazones están abiertos para recibir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ángulo 1"/>
          <p:cNvSpPr/>
          <p:nvPr/>
        </p:nvSpPr>
        <p:spPr>
          <a:xfrm>
            <a:off x="1187280" y="1916280"/>
            <a:ext cx="67694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l salmista, trazando la obra de la Providencia divina, dice: 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La tierra está llena de la misericordia de Jehová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Salmo 33 :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ángulo 1"/>
          <p:cNvSpPr/>
          <p:nvPr/>
        </p:nvSpPr>
        <p:spPr>
          <a:xfrm>
            <a:off x="900000" y="2333520"/>
            <a:ext cx="7344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"¡Quien sea sabio, observe estas cosas; y consideren todos la misericordia de Jehová!"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Salmo 107:4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ángulo 1"/>
          <p:cNvSpPr/>
          <p:nvPr/>
        </p:nvSpPr>
        <p:spPr>
          <a:xfrm>
            <a:off x="1258920" y="2273400"/>
            <a:ext cx="684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l corazón que está preparado quedará impresionado por el amor y la gloria de Dios tal como se revelan en las obras de sus ma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ángulo 1"/>
          <p:cNvSpPr/>
          <p:nvPr/>
        </p:nvSpPr>
        <p:spPr>
          <a:xfrm>
            <a:off x="900000" y="2060640"/>
            <a:ext cx="73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baseline="30000">
                <a:solidFill>
                  <a:srgbClr val="000000"/>
                </a:solidFill>
                <a:latin typeface="Calibri"/>
              </a:rPr>
              <a:t>Dios nos habla también en su Palabr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n ella tenemos en líneas más claras la revelación de su carácter, de su trato con los hombres y de la gran obra de la reden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ángulo 1"/>
          <p:cNvSpPr/>
          <p:nvPr/>
        </p:nvSpPr>
        <p:spPr>
          <a:xfrm>
            <a:off x="1116000" y="2098800"/>
            <a:ext cx="6912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n ella se nos presenta la historia de los patriarcas y profetas y de otros hombres santos de la antigüe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ángulo 1"/>
          <p:cNvSpPr/>
          <p:nvPr/>
        </p:nvSpPr>
        <p:spPr>
          <a:xfrm>
            <a:off x="1332000" y="1986120"/>
            <a:ext cx="65530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los eran hombres sujetos "a las mismas debilidades que nosotros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Santiago 5: 17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ángulo 1"/>
          <p:cNvSpPr/>
          <p:nvPr/>
        </p:nvSpPr>
        <p:spPr>
          <a:xfrm>
            <a:off x="1692360" y="1862280"/>
            <a:ext cx="59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emos cómo lucharon entre descorazonamientos como los nuestros, cómo cayeron bajo tentaciones como hemos caído noso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ángulo 1"/>
          <p:cNvSpPr/>
          <p:nvPr/>
        </p:nvSpPr>
        <p:spPr>
          <a:xfrm>
            <a:off x="1116000" y="2200320"/>
            <a:ext cx="712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y sin embargo, cobraron nuevo valor y vencieron por la gracia de Dios; y recordándolos, nos animamos en nuestra lucha por la justi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ángulo 1"/>
          <p:cNvSpPr/>
          <p:nvPr/>
        </p:nvSpPr>
        <p:spPr>
          <a:xfrm>
            <a:off x="1258920" y="1844640"/>
            <a:ext cx="669780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Al leer el relato de los preciosos sucesos que se les permitió experimentar, la luz, el amor y la bendición que les tocó gozar y la obra que hicieron por la gracia a ellos dada…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ángulo 1"/>
          <p:cNvSpPr/>
          <p:nvPr/>
        </p:nvSpPr>
        <p:spPr>
          <a:xfrm>
            <a:off x="1258920" y="2060640"/>
            <a:ext cx="684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l espíritu que los inspiró enciende en nosotros un fuego de santo celo y un deseo de ser como ellos en carácter y de andar con Dios como ell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ángulo 1"/>
          <p:cNvSpPr/>
          <p:nvPr/>
        </p:nvSpPr>
        <p:spPr>
          <a:xfrm>
            <a:off x="1332000" y="1628640"/>
            <a:ext cx="655308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Jesús dijo de las Escrituras del Antiguo Testamento -y ¡cuánto más cierto es esto acerca del Nuevo!: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  "Ellas son las que dan testimonio de mí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San Juan 5: 3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ángulo 1"/>
          <p:cNvSpPr/>
          <p:nvPr/>
        </p:nvSpPr>
        <p:spPr>
          <a:xfrm>
            <a:off x="1494000" y="2282760"/>
            <a:ext cx="617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Redentor, Aquel en quien vuestras esperanzas de vida eterna se concentr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ángulo 1"/>
          <p:cNvSpPr/>
          <p:nvPr/>
        </p:nvSpPr>
        <p:spPr>
          <a:xfrm>
            <a:off x="900000" y="2205000"/>
            <a:ext cx="720108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í, la Biblia entera nos habla de Cristo. Desde el primer relato de la creación, de la cual se dice: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  "Sin él nada de lo que es hecho, fue hecho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San Juan 1: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ángulo 1"/>
          <p:cNvSpPr/>
          <p:nvPr/>
        </p:nvSpPr>
        <p:spPr>
          <a:xfrm>
            <a:off x="1619280" y="2200320"/>
            <a:ext cx="581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l oído atento puede escuchar y entender las comunicaciones de Dios por las cosas de la naturale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ángulo 1"/>
          <p:cNvSpPr/>
          <p:nvPr/>
        </p:nvSpPr>
        <p:spPr>
          <a:xfrm>
            <a:off x="1116000" y="1989000"/>
            <a:ext cx="698508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hasta la última prome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¡He aquí, yo vengo presto!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Apocalipsis 22: 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leemos acerca de sus obras y escuchamos su voz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ángulo 1"/>
          <p:cNvSpPr/>
          <p:nvPr/>
        </p:nvSpPr>
        <p:spPr>
          <a:xfrm>
            <a:off x="1565280" y="2097000"/>
            <a:ext cx="588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i deseáis conocer al Salvador, estudiad las Santas Escri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ángulo 1"/>
          <p:cNvSpPr/>
          <p:nvPr/>
        </p:nvSpPr>
        <p:spPr>
          <a:xfrm>
            <a:off x="1619280" y="1844640"/>
            <a:ext cx="603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lenad vuestro corazón de las palabras de Dios. Son el agua viva que apaga vuestra 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ángulo 1"/>
          <p:cNvSpPr/>
          <p:nvPr/>
        </p:nvSpPr>
        <p:spPr>
          <a:xfrm>
            <a:off x="1258920" y="2133720"/>
            <a:ext cx="66261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on el pan vivo que descendió del cielo. Jesús declara: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  "A menos que comáis la carne del Hijo del hombre, y bebáis su sangre, no tendréis vida en vosotro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ángulo 1"/>
          <p:cNvSpPr/>
          <p:nvPr/>
        </p:nvSpPr>
        <p:spPr>
          <a:xfrm>
            <a:off x="1187280" y="1844640"/>
            <a:ext cx="684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Y al explicarse, dice: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 "Las palabras que yo os he hablado espíritu y vida son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San Juan 6: 53, 63)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ángulo 1"/>
          <p:cNvSpPr/>
          <p:nvPr/>
        </p:nvSpPr>
        <p:spPr>
          <a:xfrm>
            <a:off x="1925640" y="2313000"/>
            <a:ext cx="545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Nuestros cuerpos viven de lo que comemos y beb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ángulo 1"/>
          <p:cNvSpPr/>
          <p:nvPr/>
        </p:nvSpPr>
        <p:spPr>
          <a:xfrm>
            <a:off x="1116000" y="2333520"/>
            <a:ext cx="70563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y lo que sucede en la vida natural sucede en la espiritual: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lo que meditamos es lo que da tono y vigor a nuestra naturaleza espirit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ángulo 1"/>
          <p:cNvSpPr/>
          <p:nvPr/>
        </p:nvSpPr>
        <p:spPr>
          <a:xfrm>
            <a:off x="1422360" y="2276640"/>
            <a:ext cx="638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 tema de la redención es un tema que los ángeles desean escudriñ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ángulo 1"/>
          <p:cNvSpPr/>
          <p:nvPr/>
        </p:nvSpPr>
        <p:spPr>
          <a:xfrm>
            <a:off x="1403280" y="1844640"/>
            <a:ext cx="633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erá la ciencia y el canto de los redimidos durante las interminables edades de la etern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ángulo 1"/>
          <p:cNvSpPr/>
          <p:nvPr/>
        </p:nvSpPr>
        <p:spPr>
          <a:xfrm>
            <a:off x="1619280" y="2170080"/>
            <a:ext cx="588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¿No es un pensamiento digno de atención y estudio ahor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ángulo 1"/>
          <p:cNvSpPr/>
          <p:nvPr/>
        </p:nvSpPr>
        <p:spPr>
          <a:xfrm>
            <a:off x="900000" y="2089080"/>
            <a:ext cx="712800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Los verdes campos, los elevados árboles, los botones y las flores, la nubecilla que pasa, la lluvia que cae, el arroyo que murmura, las glorias de los cielos, hablan a nuestro coraz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ángulo 1"/>
          <p:cNvSpPr/>
          <p:nvPr/>
        </p:nvSpPr>
        <p:spPr>
          <a:xfrm>
            <a:off x="1042920" y="227340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La Infinita misericordia y el amor de Jesús, el sacrificio hecho en nuestro favor, demandan de nosotros la más seria y solemne reflex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ángulo 1"/>
          <p:cNvSpPr/>
          <p:nvPr/>
        </p:nvSpPr>
        <p:spPr>
          <a:xfrm>
            <a:off x="1258920" y="2241720"/>
            <a:ext cx="675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ebemos espaciarnos en el carácter de nuestro querido Redentor e Interce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ángulo 1"/>
          <p:cNvSpPr/>
          <p:nvPr/>
        </p:nvSpPr>
        <p:spPr>
          <a:xfrm>
            <a:off x="1619280" y="2060640"/>
            <a:ext cx="612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ebemos meditar sobre la misión de Aquel que vino a salvar a su pueblo de sus pe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ángulo 1"/>
          <p:cNvSpPr/>
          <p:nvPr/>
        </p:nvSpPr>
        <p:spPr>
          <a:xfrm>
            <a:off x="1042920" y="2130480"/>
            <a:ext cx="7129440" cy="27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uando contemplemos así los asuntos celestiales, </a:t>
            </a: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nuestra fe y amor serán más fuertes y nuestras oraciones más aceptables a Dios, porque se elevarán siempre con más fe y amo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ángulo 1"/>
          <p:cNvSpPr/>
          <p:nvPr/>
        </p:nvSpPr>
        <p:spPr>
          <a:xfrm>
            <a:off x="1547640" y="2276640"/>
            <a:ext cx="60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erán inteligentes y fervient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ángulo 1"/>
          <p:cNvSpPr/>
          <p:nvPr/>
        </p:nvSpPr>
        <p:spPr>
          <a:xfrm>
            <a:off x="1332000" y="2060640"/>
            <a:ext cx="660564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Habrá una confianza constante en Jesús y una experiencia viva y diaria en su poder de salvar completamente a todos los que van a Dios por medio de É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ángulo 1"/>
          <p:cNvSpPr/>
          <p:nvPr/>
        </p:nvSpPr>
        <p:spPr>
          <a:xfrm>
            <a:off x="1332000" y="1989000"/>
            <a:ext cx="669600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A medida que meditemos en la perfección del Salvador, desearemos ser enteramente  transformados y renovados conforme a la imagen de su purez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ángulo 1"/>
          <p:cNvSpPr/>
          <p:nvPr/>
        </p:nvSpPr>
        <p:spPr>
          <a:xfrm>
            <a:off x="1422360" y="2068560"/>
            <a:ext cx="631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Nuestra alma tendrá hambre y sed de ser hecha como Aquel a quien adora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ángulo 1"/>
          <p:cNvSpPr/>
          <p:nvPr/>
        </p:nvSpPr>
        <p:spPr>
          <a:xfrm>
            <a:off x="1258920" y="1916280"/>
            <a:ext cx="6626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Mientras más concentremos nuestros pensamientos en Cristo, más hablaremos de él a otros y lo representaremos ante el mu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ángulo 1"/>
          <p:cNvSpPr/>
          <p:nvPr/>
        </p:nvSpPr>
        <p:spPr>
          <a:xfrm>
            <a:off x="1619280" y="2098800"/>
            <a:ext cx="603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a Biblia no fue escrita solamente para el hombre erudito; al contrario, fue destinada a la gente comú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ángulo 1"/>
          <p:cNvSpPr/>
          <p:nvPr/>
        </p:nvSpPr>
        <p:spPr>
          <a:xfrm>
            <a:off x="1547640" y="2349360"/>
            <a:ext cx="595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y nos invitan a conocer a Aquel que lo hizo to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ángulo 1"/>
          <p:cNvSpPr/>
          <p:nvPr/>
        </p:nvSpPr>
        <p:spPr>
          <a:xfrm>
            <a:off x="971640" y="2205000"/>
            <a:ext cx="7056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as grandes verdades necesarias para la salvación están presentadas con tanta claridad como la luz del mediod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ángulo 1"/>
          <p:cNvSpPr/>
          <p:nvPr/>
        </p:nvSpPr>
        <p:spPr>
          <a:xfrm>
            <a:off x="990720" y="2276640"/>
            <a:ext cx="696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y nadie equivocará o perderá el camino, salvo los que sigan su juicio privado en vez de la voluntad divina tan claramente revel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ángulo 1"/>
          <p:cNvSpPr/>
          <p:nvPr/>
        </p:nvSpPr>
        <p:spPr>
          <a:xfrm>
            <a:off x="1349280" y="2170080"/>
            <a:ext cx="639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debemos conformarnos con el testimonio de ningún hombre en cuanto a lo que enseñan las Santas Escritu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ángulo 1"/>
          <p:cNvSpPr/>
          <p:nvPr/>
        </p:nvSpPr>
        <p:spPr>
          <a:xfrm>
            <a:off x="1349280" y="2313000"/>
            <a:ext cx="639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ino que debemos estudiar las palabras de Dios por nosotros mis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ángulo 1"/>
          <p:cNvSpPr/>
          <p:nvPr/>
        </p:nvSpPr>
        <p:spPr>
          <a:xfrm>
            <a:off x="1206360" y="2098800"/>
            <a:ext cx="667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i dejamos que otros piensen por nosotros, nuestra energía quedará mutilada y limitadas nuestras aptitu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ángulo 1"/>
          <p:cNvSpPr/>
          <p:nvPr/>
        </p:nvSpPr>
        <p:spPr>
          <a:xfrm>
            <a:off x="1258920" y="2098800"/>
            <a:ext cx="646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as nobles facultades del alma pueden perder tanto por no ejercitarse en temas dignos de su concentració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ángulo 1"/>
          <p:cNvSpPr/>
          <p:nvPr/>
        </p:nvSpPr>
        <p:spPr>
          <a:xfrm>
            <a:off x="1547640" y="1996920"/>
            <a:ext cx="60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que lleguen a ser incapaces de penetrar la profunda significación de la Palabra de D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ángulo 1"/>
          <p:cNvSpPr/>
          <p:nvPr/>
        </p:nvSpPr>
        <p:spPr>
          <a:xfrm>
            <a:off x="1170000" y="206064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La inteligencia se desarrollará si se emplea en investigar la relación de los asuntos de la Biblia, comparando texto con texto y lo espiritual con lo espirit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ángulo 1"/>
          <p:cNvSpPr/>
          <p:nvPr/>
        </p:nvSpPr>
        <p:spPr>
          <a:xfrm>
            <a:off x="1349280" y="2027160"/>
            <a:ext cx="631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hay ninguna cosa mejor para fortalecer la inteligencia que el estudio de las Santas Escritu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ángulo 1"/>
          <p:cNvSpPr/>
          <p:nvPr/>
        </p:nvSpPr>
        <p:spPr>
          <a:xfrm>
            <a:off x="1116000" y="2133720"/>
            <a:ext cx="669600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Ningún libro es tan potente para elevar los pensamientos, para dar vigor a las facultades, como las grandes y ennoblecedoras verdades de la Bibli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ángulo 1"/>
          <p:cNvSpPr/>
          <p:nvPr/>
        </p:nvSpPr>
        <p:spPr>
          <a:xfrm>
            <a:off x="1258920" y="2276640"/>
            <a:ext cx="675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Nuestro Salvador entrelazó sus preciosas lecciones con las cosas de la naturale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ángulo 1"/>
          <p:cNvSpPr/>
          <p:nvPr/>
        </p:nvSpPr>
        <p:spPr>
          <a:xfrm>
            <a:off x="1243080" y="257976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Si se estudiara la Palabra de Dios como se debe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ángulo 1"/>
          <p:cNvSpPr/>
          <p:nvPr/>
        </p:nvSpPr>
        <p:spPr>
          <a:xfrm>
            <a:off x="1258920" y="2133720"/>
            <a:ext cx="655308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Los hombres tendrían una grandeza de espíritu, una nobleza de carácter y una firmeza de propósito, que raramente pueden verse en estos tiemp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ángulo 1"/>
          <p:cNvSpPr/>
          <p:nvPr/>
        </p:nvSpPr>
        <p:spPr>
          <a:xfrm>
            <a:off x="1565280" y="2098800"/>
            <a:ext cx="610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se saca sino un beneficio muy pequeño de una lectura precipitada de las Sagradas Escritu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ángulo 1"/>
          <p:cNvSpPr/>
          <p:nvPr/>
        </p:nvSpPr>
        <p:spPr>
          <a:xfrm>
            <a:off x="1476360" y="2273400"/>
            <a:ext cx="602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Uno puede leer toda la Biblia y quedarse, sin embargo, sin ver su belleza o comprender su sentido profundo y ocul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ángulo 1"/>
          <p:cNvSpPr/>
          <p:nvPr/>
        </p:nvSpPr>
        <p:spPr>
          <a:xfrm>
            <a:off x="1098720" y="2205000"/>
            <a:ext cx="68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Un pasaje estudiado hasta que su significado nos parezca claro y evidentes sus relaciones con el plan de la salv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ángulo 1"/>
          <p:cNvSpPr/>
          <p:nvPr/>
        </p:nvSpPr>
        <p:spPr>
          <a:xfrm>
            <a:off x="900000" y="234936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s de mucho más valor que la lectura de muchos capítulos sin un propósito determinado y sin obtener ninguna instrucción posi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ángulo 1"/>
          <p:cNvSpPr/>
          <p:nvPr/>
        </p:nvSpPr>
        <p:spPr>
          <a:xfrm>
            <a:off x="1547640" y="2262240"/>
            <a:ext cx="61563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Tened vuestra Biblia a mano, para que cuando tengáis oportunidad la leáis; retened los textos en vuestra memori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ángulo 1"/>
          <p:cNvSpPr/>
          <p:nvPr/>
        </p:nvSpPr>
        <p:spPr>
          <a:xfrm>
            <a:off x="1619280" y="2136600"/>
            <a:ext cx="581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ún al ir por la calle, podéis leer un pasaje y meditar en él hasta que se grabe en la m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ángulo 1"/>
          <p:cNvSpPr/>
          <p:nvPr/>
        </p:nvSpPr>
        <p:spPr>
          <a:xfrm>
            <a:off x="1638360" y="2098800"/>
            <a:ext cx="581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podemos obtener sabiduría sin una atención verdadera y un estudio con o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ángulo 1"/>
          <p:cNvSpPr/>
          <p:nvPr/>
        </p:nvSpPr>
        <p:spPr>
          <a:xfrm>
            <a:off x="1349280" y="2027160"/>
            <a:ext cx="6607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lgunas porciones de la Santa Escritura son en verdad demasiado claras para que se puedan entender 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ángulo 1"/>
          <p:cNvSpPr/>
          <p:nvPr/>
        </p:nvSpPr>
        <p:spPr>
          <a:xfrm>
            <a:off x="1547640" y="1935000"/>
            <a:ext cx="624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Los árboles, los pájaros, las flores, los valles, las colinas, los lagos y los hermosos cielos, así como los incidentes y las circunstancias de la vida di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ángulo 1"/>
          <p:cNvSpPr/>
          <p:nvPr/>
        </p:nvSpPr>
        <p:spPr>
          <a:xfrm>
            <a:off x="1422360" y="1844640"/>
            <a:ext cx="631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ero hay otras cuyo significado no es superficial, para que se vea a primera vis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ángulo 1"/>
          <p:cNvSpPr/>
          <p:nvPr/>
        </p:nvSpPr>
        <p:spPr>
          <a:xfrm>
            <a:off x="900000" y="2098800"/>
            <a:ext cx="73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e debe comparar pasaje con pasaje. De haber un escudriñamiento cuidadoso y una reflexión acompañada de o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ángulo 1"/>
          <p:cNvSpPr/>
          <p:nvPr/>
        </p:nvSpPr>
        <p:spPr>
          <a:xfrm>
            <a:off x="1332000" y="2097000"/>
            <a:ext cx="631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Y tal estudio será abundantemente recompens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ángulo 1"/>
          <p:cNvSpPr/>
          <p:nvPr/>
        </p:nvSpPr>
        <p:spPr>
          <a:xfrm>
            <a:off x="1709640" y="2170080"/>
            <a:ext cx="559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omo el minero descubre vetas de precioso metal ocultas debajo de la superficie de la tier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ángulo 1"/>
          <p:cNvSpPr/>
          <p:nvPr/>
        </p:nvSpPr>
        <p:spPr>
          <a:xfrm>
            <a:off x="990720" y="2243160"/>
            <a:ext cx="718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así también el que perseverantemente escudriña la Palabra de Dios buscando sus tesoros ocultos, encontrará verdades del mayor valor, que se ocultan de la vista del investigador descuid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ángulo 1"/>
          <p:cNvSpPr/>
          <p:nvPr/>
        </p:nvSpPr>
        <p:spPr>
          <a:xfrm>
            <a:off x="1349280" y="2349360"/>
            <a:ext cx="624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Las palabras de la inspiración, examinadas en el alma, serán como ríos de agua que manan de la fuente de la v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ángulo 1"/>
          <p:cNvSpPr/>
          <p:nvPr/>
        </p:nvSpPr>
        <p:spPr>
          <a:xfrm>
            <a:off x="1584360" y="1868400"/>
            <a:ext cx="615636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Nunca se debe estudiar la Biblia sin oración. Antes de abrir sus páginas debemos pedir la iluminación del Espíritu Santo, y ésta nos será dad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ángulo 1"/>
          <p:cNvSpPr/>
          <p:nvPr/>
        </p:nvSpPr>
        <p:spPr>
          <a:xfrm>
            <a:off x="1278000" y="2027160"/>
            <a:ext cx="667872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Cuando Natanael vino a Jesús, el Salvador exclamó:  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"He aquí verdaderamente un israelita, en quien no hay engaño. Dícele Natanael: ¿De dónde me conoces? Jesús respondió y dijo: Antes que Felipe te llamara, cuando estabas debajo de la higuera, te vi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San Juan 1: 47, 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ángulo 1"/>
          <p:cNvSpPr/>
          <p:nvPr/>
        </p:nvSpPr>
        <p:spPr>
          <a:xfrm>
            <a:off x="1349280" y="2492280"/>
            <a:ext cx="646272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Así también nos verá Jesús en los lugares secretos de oración, si lo buscamos para que nos dé luz para saber lo que es la verda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ángulo 1"/>
          <p:cNvSpPr/>
          <p:nvPr/>
        </p:nvSpPr>
        <p:spPr>
          <a:xfrm>
            <a:off x="1565280" y="2136600"/>
            <a:ext cx="6175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os ángeles del mundo de luz estarán con los que busquen con humildad de corazón la dirección div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1T21:04:14Z</dcterms:created>
  <dc:creator>Orlando Rosales</dc:creator>
  <dc:description/>
  <dc:language>en-US</dc:language>
  <cp:lastModifiedBy>Karina de Martin</cp:lastModifiedBy>
  <dcterms:modified xsi:type="dcterms:W3CDTF">2017-03-13T19:25:51Z</dcterms:modified>
  <cp:revision>32</cp:revision>
  <dc:subject/>
  <dc:title>CAPÍTULO 10. Los Dos Lenguajes de la Providencia </dc:title>
</cp:coreProperties>
</file>